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E212-59AE-49EF-874D-2A234D756A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27A5-ABC9-413D-AF7D-CBCDF2FD79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433D-7AF2-4D19-9A99-B77A367328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2A80-9FC3-4F20-B108-D266B87265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8EAF-7213-4ED6-B2E5-4D94710A36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A145-3D4E-4EA9-AB9F-854642E6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79D-DE3F-4520-A5BD-46F71AB9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D1BE-6873-478F-A05D-DF0C7F5C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9F5F-FCD9-40BD-9B24-E569816B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B1ED-A41E-430E-B88C-6B72BDFE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F94F-BBDB-4E39-8F5E-38AE0E78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6B92-B150-4A93-930F-E70C4822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8EF3-0EE5-4AB1-9135-F997F59F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E661-FE21-4352-BA7A-A3E11429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E254-B028-4A4A-8DF8-AB4F9441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D03D-67E3-42F2-BE9B-156B5AA2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487-5728-4377-B7CC-D6998E60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FE93-1886-4172-912D-045E6C8E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DF97-A41A-423A-8F1E-D4C8B5EA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BC4B-450A-4A3D-86D8-963008C1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DA52-4194-45EE-B792-A999589F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DB17-7922-4149-9CB3-91A38740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CFD97-1662-4D07-BD25-69DA8C3F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D0F8C-760E-40D9-860B-00432D69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6241F-A132-43A4-85CA-D8778753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18B3B-7C6E-4327-9333-E565F0EB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F461D-B849-46EB-BC16-4716CFDF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DD87-36AC-45A6-92DF-12D2983D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6B434-17A8-44C5-9071-C83852B7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C3292-70A6-48B0-B034-309EC4D6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DF479-695B-461C-B54B-2DA51A4C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3B2D0-9974-4D55-AAD4-67DCEE51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D4C09-9BB8-4B50-82CB-5E718F64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B382B-C248-44EB-A681-7DC1D7AC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ACD55-17B2-4AE3-95D2-33F69AE3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AE3EF-AEE0-447A-8028-D6BF67E4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4ED29-4B22-40B0-B2F5-41608025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A6198-0184-4525-A903-D824AC87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551E-60E8-4E99-8406-8D5F6FE8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C321D-3BB9-49B9-81D7-AD434178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A7A0C-02FF-49AE-A3B5-ACBE483C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0E38B-2C49-4DA6-BAC8-AE889CCB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97CFF-42AA-4FC0-9703-A3213425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34A25-7162-4FA9-A1CF-E4868FAA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155E0-0667-4ED6-90B4-1CA70E43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EDE74-DA0F-4789-B707-25A891EC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DF723-AB7D-4CDA-9362-7589CD03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7B7C3-09CC-4B87-BE9D-BAB67541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4DC2-19E3-4FCE-A991-02FD2627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DD3-19FB-438E-A957-036C87E6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F45-AE1B-4616-BE9C-8C85412D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DA5-C13F-4F47-9C2A-775F1199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0DD-BE8E-487E-A0EA-13217A89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410D-FC7E-4E83-9C27-82B36D2B138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B023-87AF-4C74-90C8-CC9419225ED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82EB-F273-413A-A474-4EBD76D3DC8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23A5-52AA-4167-AA46-B4A6B6DB3EB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55160" y="1419120"/>
            <a:ext cx="7945560" cy="453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Постоянно действующий семинар для родителей, специалистов учреждений, организаций города по решению остро возникающих вопросов в сфере профилактики безнадзорности, правонарушений, антиобщественных действий несовершеннолетних, защите их прав» </a:t>
            </a:r>
            <a:br>
              <a:rPr sz="2800"/>
            </a:b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21 год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04880" y="22536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803680" y="4381560"/>
            <a:ext cx="619740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Объект 1" descr=""/>
          <p:cNvPicPr/>
          <p:nvPr/>
        </p:nvPicPr>
        <p:blipFill>
          <a:blip r:embed="rId1"/>
          <a:stretch/>
        </p:blipFill>
        <p:spPr>
          <a:xfrm>
            <a:off x="1384200" y="73080"/>
            <a:ext cx="7570800" cy="34084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6"/>
          <p:cNvSpPr/>
          <p:nvPr/>
        </p:nvSpPr>
        <p:spPr>
          <a:xfrm>
            <a:off x="1001880" y="3736800"/>
            <a:ext cx="79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личие оснований, предусмотренных ч.1 ст.5 Закона № 120-ФЗ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хождение несовершеннолетнего в обстановке, представляющей опасность (угрозу) для его жизни и (или) здоровья в связи с отсутствием контроля за его поведением вследствие неисполнения или ненадлежащего исполнения обязанностей по его воспитанию, обучению и (или) содержанию со стороны родителей или иных законных представителей либо должностных лиц, либо в связи с отсутствием у него места жительства и (или) места пребы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6"/>
          <p:cNvSpPr/>
          <p:nvPr/>
        </p:nvSpPr>
        <p:spPr>
          <a:xfrm>
            <a:off x="1301760" y="1038240"/>
            <a:ext cx="736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в течение календарного года повторного самовольного ухода из семьи, учреждения системы профилакти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суицидальной попыт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возбуждение уголовного дела в отношении родителей либо одного                                       из родителей (законных представителей) несовершеннолетнего в связи с совершением в отношении него умышленного преступ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родителями, иными законными представителями действий, свидетельствующих о жестоком обращении с несовершеннолетним, выражающееся, в частности, в осуществлении физического или психического насилия над ними, в покушении на их половую неприкоснов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влечение родителей либо одного из родителей (законных представителей) несовершеннолетних к административной ответственности в соответствии  с ч.1 ст.5.35, ч.1 ст.5.35.1,                   ст. 5.61, ст.6.1.1, ч.2 ст.6.10, ч.2 ст.6.23 КоАП РФ, при наличии фактов систематического нарушения прав и законных интересов ребенка, в следствии длительного непрекращающегося невыполнения или ненадлежащего выполнения обязанностей по воспитанию, содержанию и обучению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6"/>
          <p:cNvSpPr/>
          <p:nvPr/>
        </p:nvSpPr>
        <p:spPr>
          <a:xfrm>
            <a:off x="1284120" y="1197000"/>
            <a:ext cx="736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совершение родителями, законными представителями несовершеннолетнего действий, по вовлечению последних                                  в противоправные или антиобщественные действ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тическое употребление родителями либо одним из родителей или иными законными представителями, либо одним из законных представителей несовершеннолетних наркотических средств, психотропных и одурманивающих веществ, а также алкогольной и спиртосодержащей прод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иные обстоятельства, в случае необходимости предупреждения право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 выявлении несовершеннолетнего, права и законные интересы которого нарушены, находящегося в социально опасном положении, иной трудной жизненной ситуации, направляется в комиссию, управление по опеке и попечительству Администрации города, при необходимости в  соответствующие органы и учреждения системы профилактики по форме согласно приложению 3 к Регламент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незамедлительно (в течение суток)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просы в органы и учреждения системы профилактики, иные заинтересованные организации с целью подготовки информации на заседание комиссии, для принятия коллегиального решения о целесообразности признания  несовершеннолетнего и (или) семьи, находящимся в социально опасном положении, и проведении индивидуальной профилактической работы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в субъекты профилактики не позднее 3 рабочих дней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рганов и учреждений системы профилактики о ребенке и членах его семьи по запросам  управления по опеке и попечительству  и комисси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 не позднее 3 рабочих дней с даты поступления запро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69520" y="1596960"/>
            <a:ext cx="83790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, организует обследование условий проживания выявленного ребенка и его семьи с целью оценки степени риска нарушения прав и законных интересов ребенка и готовит акт обследов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и 3 дней с даты поступления сооб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итогам обследования условий жизни ребенка и его семьи управление  по опеке  и попечительству готовит заключение для организации индивидуальной профилактической работы в отношении ребенка и его семь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готовится в течении 7 рабочих дней с даты поступления сведений о ребёнк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ts val="1562"/>
              </a:lnSpc>
              <a:spcBef>
                <a:spcPts val="26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инятия решений по фактам нарушения прав детей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15 календарных дней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 дня получения информации                 о выявлении несовершеннолетнего и(или) членов его семьи, находящихся                                   в социально опасном положении, и иной трудной жизненной ситуации, заключения органа опеки, документов, предусмотренных ст. 6 Закона № 120-ФЗ, коллегиально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нимает постановление об организации индивидуальной профилактической работы и (или) социального сопровождения семьи в отношении несовершеннолетнего и членов его семьи, признании несовершеннолетнего и (или) членов его семьи, находящимся в социально опасном поло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убъекты системы профилактики – участников индивидуальной профилактической работ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перечень неотложных мероприятий с несовершеннолетними                           и (или) членами их семей, находящимися в социально опасном положении, сформированных с учётом предложений (в пределах компетенции) субъектов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 учреждения системы профилактики, определённые постановлением комиссии участниками реализации ИПР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в адрес комиссии и органов, учреждений системы профилактики, определенных постановлением комиссии участниками реализации ИПР, согласно приложению 7 к Регламенту  (данные исполнителя -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ИО (полностью), наименования должности, контактного телефона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перечень мероприяти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е 10 рабочих дней, со дня получения копии постановления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участника межведомственной рабочей группы в Отдел (каб.1, ул. Магистральная, 22) для выработки межведомственной ИП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и, указанные в постановлениях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аствуют в определении ответственного исполнителя за подготовку ИПР и  срока предоставления ИПР в адрес Отдел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 заседании межведомственной рабочей группы, дата, место и время проведения  которой указывается в постановлении об организации ИПР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30 дней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о дня принятия постановления о признании несовершеннолетнего и (или) членов его семьи, находящимся в социально опасном положении, постановлением очередного заседания комисс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ИПР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иложение 11 к Регламенту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начает ответственного исполнителя (учреждение (орган)                                     за ознакомление несовершеннолетних и членов их семьи с ИПР,                             их персональное сопровождение, обобщение результатов межведомственной работы, подготовку аналитической информации о ходе исполнения ИПР     (не реже 1 раза в три месяца), а также подготовку заключения                                   по результатам реализации индивидуальной профилактической работы для направления в комисси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роки предоставления итоговой информации в адрес                          ответственного исполнителя  и заключения по результатам реализации ИПР в адрес отдела по организации работы комиссии по делам несовершеннолетних, защите 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роки 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84240" y="1193400"/>
            <a:ext cx="80186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дивидуальная профилактическая работа с несовершеннолетним                            и (или)членами его семьи организуется на период, необходимый                                 на реализацию мероприятий, направленных на устранение причин                            и условий, обусловивших положение несовершеннолетнего                                               и (или) семьи как социально опасно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менее 6 месяце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ка эффективности реализации ИПР осуществляется по мере необходимости, но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реже одного раза в квартал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заседании комиссии, по результатам которого выносится одно из следующих решений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несении изменений и дополнений в ИПР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прекращении индивидуальной профилактической работы                                     и исключении несовершеннолетнего и (или) членов его семьи из Реестра,                    с указанием оснований исклю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сборе документов для направления в судебные органы искового заявления  о лишении либо ограничении родительск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 прекращении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ую информацию исполнители реализации ИПР направляют                   в адрес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тветственного исполнителя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электронном виде                                             в формате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ord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df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 подписью руководител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, утверждённый постановлением комисс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ыми документами являют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алитический отчёт о реализации мероприятий ИПР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 мотивированными предложениями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продолжении либо завершения ИПР в соответствии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</a:t>
            </a:r>
            <a:r>
              <a:rPr b="1" i="1" lang="ru-RU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ложением12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гламент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уальный акт обследования условий жизни несовершеннолетнего и его семьи (для УМВД России по г. Сургута и Управления по опеке и попечительству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4520" y="1415880"/>
            <a:ext cx="8273880" cy="313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 исполнении требований Регламента межведомственного взаимодействия субъектов системы профилактики безнадзорности                                                  и правонарушений несовершеннолетних и иных органов и организаций                                  в муниципальном образовании городской округ город Сургут при выявлении, учёте, организации и проведении индивидуальной профилактической работы  с несовершеннолетними и (или) семьями, находящимися в социально опасном положении и иной трудной жизненной ситуации (утверждённого постановлением комиссии от  05.12.2019  № 19-5-56 (с изменениями от 26.02.2021 </a:t>
            </a:r>
            <a:br>
              <a:rPr sz="20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становление № 5-3-14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04880" y="7452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2622600" y="5873760"/>
            <a:ext cx="3127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2685960" y="4551480"/>
            <a:ext cx="62928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90000"/>
          </a:bodyPr>
          <a:p>
            <a:pPr marL="24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12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азанова Валентина Николаевна – заместитель начальника отдела по организации работы комиссии по делам  несовершеннолетних, защите их прав, член комиссии по делам несовершеннолетних и защите их прав при Администрации города Сургут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3594600" y="59691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марта 202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: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ую записку с общим анализом достигнутых результатов профилактической работы с семьей,                           с оценкой эффективности/не эффективности проведенной рабо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об устранении (сохранении) социально опасного опасного положения несовершеннолетнего и (или) членов его семь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о проведении дальнейшей профилактической работы с несовершеннолетним                      и членами его семь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у для утверждения на новый период, с предложением о продолжении ИПР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3520" y="315720"/>
            <a:ext cx="731520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10880" y="1068120"/>
            <a:ext cx="79470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необходимости продолжения проведения индивидуальной профилактической работы (в этом случае предоставляя данные должностного лица, ответственного за проведение индивидуальной профилактической работы  с семьей, с указанием ФИО (полностью), наименования должности, контактного телефона, перечень планируемых мероприятий в рамках ИПР, необходимости включения нового исполнителям, не определенного постановлением комиссии ран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о завершении индивидуальной профилактической работы                            с указанием оснований ( положительная реабилитация, и др.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об исключении из числа участников реализации ИПР (с указанием оснований для исключения, это может 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нение органом или учреждением мероприятий ИПР с положительным результатом , если повторное их проведение не требуется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каз родителей (иных законных представителей) от проведения индивидуальной профилактической работы (п.5.5.2. настоящего Регламента), иное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ключительный этап реализации ИПР 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53680" y="1193760"/>
            <a:ext cx="84488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ственный исполнитель на основании представленных аналитических отчётов готовит заключение и направляет его в адрес заместителя председателя комиссии (начальника Отдела) и на адрес электронной почты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onstantinova_ol@admsurgut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тветственность за нарушение сроков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факта неисполнения в указанные сроки органами и учреждениями системы постановления об организациии проведении индивидуальной профилактической работы                                 с несовершеннолетним и (или)членами их семей, находящимися                   в социально опасном положении, комиссия инициирует перед руководителями вопрос о привлечении виновных лиц                                     к дисциплинарной ответствен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признаков административного правонарушения, предусмотренного ст.6 Закона Ханты-Мансийского автономного округа – Югры от 11.06.2010 № 102-оз «Об административных правонарушениях» комиссия вправе направить соответствующие материалы в прокуратуру город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44640" y="240840"/>
            <a:ext cx="77896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3" name="Группа 5" descr=""/>
          <p:cNvPicPr/>
          <p:nvPr/>
        </p:nvPicPr>
        <p:blipFill>
          <a:blip r:embed="rId1"/>
          <a:stretch/>
        </p:blipFill>
        <p:spPr>
          <a:xfrm>
            <a:off x="414360" y="865080"/>
            <a:ext cx="852156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5" name="Группа 5" descr=""/>
          <p:cNvPicPr/>
          <p:nvPr/>
        </p:nvPicPr>
        <p:blipFill>
          <a:blip r:embed="rId1"/>
          <a:stretch/>
        </p:blipFill>
        <p:spPr>
          <a:xfrm>
            <a:off x="371520" y="1231920"/>
            <a:ext cx="8778960" cy="5576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7" name="Группа 5" descr=""/>
          <p:cNvPicPr/>
          <p:nvPr/>
        </p:nvPicPr>
        <p:blipFill>
          <a:blip r:embed="rId1"/>
          <a:stretch/>
        </p:blipFill>
        <p:spPr>
          <a:xfrm>
            <a:off x="463680" y="1517760"/>
            <a:ext cx="8686800" cy="5290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47360" y="1290240"/>
            <a:ext cx="81234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лиц, в отношении которых проводится индивидуальная профилактическая работа, включенных в реестр, находящихся в СО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жеквартально в срок не позднее 10 числа следующего                                                  за отчётным периодом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данных об исполнении постановлений комиссии в рамках реализации ИПР с несовершеннолетними и членами их семей                             за прошедший меся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 Отдела по организации работы комиссии по делам несовершеннолетних, защите их прав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позднее 10 числа каждого месяц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уководители органов и учреждений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ечение 3 рабочих дней с момента получения запроса о сверке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Прямоугольник 6"/>
          <p:cNvSpPr/>
          <p:nvPr/>
        </p:nvSpPr>
        <p:spPr>
          <a:xfrm>
            <a:off x="1247760" y="228600"/>
            <a:ext cx="62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ые органами системы профилактики сверки в рамках Регл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23800" y="104400"/>
            <a:ext cx="6646680" cy="106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1" i="1" lang="ru-RU" sz="2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Номера телефонов служб, занимающихся защитой прав несовершеннолетних: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00280" y="1170000"/>
            <a:ext cx="805320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по делам несовершеннолетних </a:t>
            </a: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защите их прав при Администрации города Сургута                                  (Детская общественная приемная)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363859,  363858,  351811,  355091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522857,  522833,  25285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куратура города Сургута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 3462) 219901,  219955,  219945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телефон вызова экстренных служб ( полиции, пожарной охраны, скорой помощи и службы спасения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2 (круглосуточно, с любого телефона бесплат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общероссийский номер Детского телефона довер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-800-2000-122 ( бесплатно, анонимно, круглосуточ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50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611280" y="25210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dmsurgut.ru/rubric/23868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Reglament-mezhvedomstvennogo-vzaimodeystviya-sub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83880" y="11998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СЫЛКА НА РЕГЛАМЕНТ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30400" y="49320"/>
            <a:ext cx="7423200" cy="10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взаимоинформирования 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1840" y="596520"/>
            <a:ext cx="8434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явлении случаев, предусмотренных ст.9 Закона № 120-ФЗ, а также Постановлением Правительства                          ХМАО – Югры от 02.09.2009 №232-п, субъекты системы профилактики направляют информацию в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у города Сургут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арушении прав и свобод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иссию по делам несовершеннолетних и защите их прав </a:t>
            </a:r>
            <a:r>
              <a:rPr b="1" lang="ru-RU" sz="1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ных случаях нарушения прав несовершеннолетних на образование, труд, отдых, жилище и других прав, а также о недостатках в деятельности органов и учреждений, препятствующих предупреждению безнадзорности и правонарушений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оставшихся без попечения родителей или иных законных представителей, либо находящихся в обстановке, представляющей угрозу их жизни, здоровью или препятствующей их воспитанию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социальной защиты населения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уждающихся в помощи государства в связи с безнадзорностью или беспризорностью, в связи с самовольным уходом из детских домов, других детских учреждений, совершением неоднократных самовольных уходов, суицидальных попыток, систематическим агрессивным поведением, а также о выявлен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,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ходящихся в социально опасном положени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МВД России по г. Сургуту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родителей несовершеннолетних или иных их законных представителей и иных лиц, жестоко обращающихся с несовершеннолетними и (или) вовлекающих их в совершение преступления или антиобщественных действий, или совершающих по отношению к ним другие противоправные деяния, а также о несовершеннолетних, совершивших правонарушение или антиобщественные действия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юджетное учреждение Ханты-Мансийского автономного округа – Югры «Сургутская клиническая психоневрологическая больница»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о выявлении несовершеннолетних, нуждающихся в обследовании, наблюдении или лечении в связи с употреблением алкогольной и спиртосодержащей продукции, пива и напитков, изготавливаемых на его основе, наркотических средств, психотропных или одурманивающих вещест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партамент образования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уждающихся в помощи государства в связи с прекращением по неуважительным причинам занятий в образовательных организац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физической культуры и спорта, комитет по культуре и туризму, отдел молодежной политики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аходящихся в социально опасном положении, иной трудной жизненной ситуации, и нуждающихся в этой связи в оказании помощи в организации отдыха, досуга, занят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зенное учреждение Ханты-Мансийского автономного округа - Югры «Сургутский центр занятости населения»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аходящихся в социально опасном положении, иной трудной жизненной ситуации, и нуждающихся в этой связи в профессиональной ориентации, профессиональном обучении и содействии </a:t>
            </a:r>
            <a:r>
              <a:rPr b="1" lang="ru-RU" sz="1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трудовом устройстве.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0720" y="221760"/>
            <a:ext cx="63486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а информирования о чрезвычайном происшествии с несовершеннолетним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8760" y="1122480"/>
            <a:ext cx="7499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общение по предлагаемой форме направляется в адрес председателя комиссии незамедлительно с момента выявления (установления) факта чрезвычайного происшествия, копия - в отдел по организации работы  комиссии по делам несовершеннолетних, защите их прав Администрации города (в том числе в формате word), в случае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гибели ребенка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жизни и здоровья несовершеннолетних, в том числе факты жестокого обращения со стороны родителей (законных представителей), должностных лиц и иных взрослых лиц,  а также в случае принятия решения о помещении несовершеннолетних, подвергшихся жёсткому обращению,                                в учреждения системы профилактики безнадзорности                                    и правонарушений несовершеннолетних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половой неприкосновенности и половой свободы несовершеннолетних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уицидальных попыток (завершенных, незавершенных)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травм, увечья, в результате которых несовершеннолетний получил тяжкий либо средний вред здоровью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71680" y="1633680"/>
            <a:ext cx="8370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рганам и учреждениям системы профилактики безнадзорности и правонарушений несовершеннолетних города в соответствии с частью 2 статьи 9 Федерального Закона № 120-ФЗ от 24.06.1999 «Об основах системы профилактики безнадзорности и правонарушений несовершеннолетних» обеспечить незамедлительное  информирование председателя комиссии о выявленных (установленных) фактах чрезвычайного происшествия с несовершеннолетними по форме согласно приложению 2 к постановлению комиссии по делам несовершеннолетних и защите их прав при Администрации города Сургута от 23.01.2018 № 1-1-1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880" y="180720"/>
            <a:ext cx="765792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лгоритм (порядок)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заимодействия   при выявлении случаев чрезвычайного происшествия 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с несовершеннолетними (далее-ЧП) в муниципальном образовании городской округ город Сургут</a:t>
            </a:r>
            <a:br>
              <a:rPr sz="1400"/>
            </a:b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Схема 36" descr=""/>
          <p:cNvPicPr/>
          <p:nvPr/>
        </p:nvPicPr>
        <p:blipFill>
          <a:blip r:embed="rId1"/>
          <a:stretch/>
        </p:blipFill>
        <p:spPr>
          <a:xfrm>
            <a:off x="2414520" y="1268280"/>
            <a:ext cx="2138400" cy="106704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35" descr=""/>
          <p:cNvPicPr/>
          <p:nvPr/>
        </p:nvPicPr>
        <p:blipFill>
          <a:blip r:embed="rId2"/>
          <a:stretch/>
        </p:blipFill>
        <p:spPr>
          <a:xfrm>
            <a:off x="304920" y="1262160"/>
            <a:ext cx="2127240" cy="15112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1" descr=""/>
          <p:cNvPicPr/>
          <p:nvPr/>
        </p:nvPicPr>
        <p:blipFill>
          <a:blip r:embed="rId3"/>
          <a:stretch/>
        </p:blipFill>
        <p:spPr>
          <a:xfrm>
            <a:off x="3137040" y="3139920"/>
            <a:ext cx="2869920" cy="578160"/>
          </a:xfrm>
          <a:prstGeom prst="rect">
            <a:avLst/>
          </a:prstGeom>
          <a:ln w="0">
            <a:noFill/>
          </a:ln>
        </p:spPr>
      </p:pic>
      <p:pic>
        <p:nvPicPr>
          <p:cNvPr id="238" name="Схема 37" descr=""/>
          <p:cNvPicPr/>
          <p:nvPr/>
        </p:nvPicPr>
        <p:blipFill>
          <a:blip r:embed="rId4"/>
          <a:stretch/>
        </p:blipFill>
        <p:spPr>
          <a:xfrm>
            <a:off x="4565520" y="1255680"/>
            <a:ext cx="2298960" cy="2090880"/>
          </a:xfrm>
          <a:prstGeom prst="rect">
            <a:avLst/>
          </a:prstGeom>
          <a:ln w="0">
            <a:noFill/>
          </a:ln>
        </p:spPr>
      </p:pic>
      <p:pic>
        <p:nvPicPr>
          <p:cNvPr id="239" name="Схема 38" descr=""/>
          <p:cNvPicPr/>
          <p:nvPr/>
        </p:nvPicPr>
        <p:blipFill>
          <a:blip r:embed="rId5"/>
          <a:stretch/>
        </p:blipFill>
        <p:spPr>
          <a:xfrm>
            <a:off x="6877080" y="1298520"/>
            <a:ext cx="2217600" cy="1249560"/>
          </a:xfrm>
          <a:prstGeom prst="rect">
            <a:avLst/>
          </a:prstGeom>
          <a:ln w="0">
            <a:noFill/>
          </a:ln>
        </p:spPr>
      </p:pic>
      <p:pic>
        <p:nvPicPr>
          <p:cNvPr id="240" name="Схема 48" descr=""/>
          <p:cNvPicPr/>
          <p:nvPr/>
        </p:nvPicPr>
        <p:blipFill>
          <a:blip r:embed="rId6"/>
          <a:stretch/>
        </p:blipFill>
        <p:spPr>
          <a:xfrm>
            <a:off x="2646360" y="3060720"/>
            <a:ext cx="639432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Схема 47" descr=""/>
          <p:cNvPicPr/>
          <p:nvPr/>
        </p:nvPicPr>
        <p:blipFill>
          <a:blip r:embed="rId7"/>
          <a:stretch/>
        </p:blipFill>
        <p:spPr>
          <a:xfrm>
            <a:off x="304920" y="2766960"/>
            <a:ext cx="2262240" cy="1085760"/>
          </a:xfrm>
          <a:prstGeom prst="rect">
            <a:avLst/>
          </a:prstGeom>
          <a:ln w="0">
            <a:noFill/>
          </a:ln>
        </p:spPr>
      </p:pic>
      <p:pic>
        <p:nvPicPr>
          <p:cNvPr id="242" name="Схема 49" descr=""/>
          <p:cNvPicPr/>
          <p:nvPr/>
        </p:nvPicPr>
        <p:blipFill>
          <a:blip r:embed="rId8"/>
          <a:stretch/>
        </p:blipFill>
        <p:spPr>
          <a:xfrm>
            <a:off x="4846680" y="3736800"/>
            <a:ext cx="4164120" cy="712800"/>
          </a:xfrm>
          <a:prstGeom prst="rect">
            <a:avLst/>
          </a:prstGeom>
          <a:ln w="0">
            <a:noFill/>
          </a:ln>
        </p:spPr>
      </p:pic>
      <p:pic>
        <p:nvPicPr>
          <p:cNvPr id="243" name="Схема 50" descr=""/>
          <p:cNvPicPr/>
          <p:nvPr/>
        </p:nvPicPr>
        <p:blipFill>
          <a:blip r:embed="rId9"/>
          <a:stretch/>
        </p:blipFill>
        <p:spPr>
          <a:xfrm>
            <a:off x="281160" y="4095720"/>
            <a:ext cx="3620880" cy="2701800"/>
          </a:xfrm>
          <a:prstGeom prst="rect">
            <a:avLst/>
          </a:prstGeom>
          <a:ln w="0">
            <a:noFill/>
          </a:ln>
        </p:spPr>
      </p:pic>
      <p:pic>
        <p:nvPicPr>
          <p:cNvPr id="244" name="Схема 51" descr=""/>
          <p:cNvPicPr/>
          <p:nvPr/>
        </p:nvPicPr>
        <p:blipFill>
          <a:blip r:embed="rId10"/>
          <a:stretch/>
        </p:blipFill>
        <p:spPr>
          <a:xfrm>
            <a:off x="3925800" y="4522680"/>
            <a:ext cx="5168880" cy="2457720"/>
          </a:xfrm>
          <a:prstGeom prst="rect">
            <a:avLst/>
          </a:prstGeom>
          <a:ln w="0">
            <a:noFill/>
          </a:ln>
        </p:spPr>
      </p:pic>
      <p:sp>
        <p:nvSpPr>
          <p:cNvPr id="245" name="Стрелка вниз 52"/>
          <p:cNvSpPr/>
          <p:nvPr/>
        </p:nvSpPr>
        <p:spPr>
          <a:xfrm>
            <a:off x="3497400" y="2327400"/>
            <a:ext cx="223560" cy="741240"/>
          </a:xfrm>
          <a:prstGeom prst="downArrow">
            <a:avLst>
              <a:gd name="adj1" fmla="val 50000"/>
              <a:gd name="adj2" fmla="val 5005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53"/>
          <p:cNvSpPr/>
          <p:nvPr/>
        </p:nvSpPr>
        <p:spPr>
          <a:xfrm>
            <a:off x="5753160" y="3084480"/>
            <a:ext cx="253800" cy="16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низ 54"/>
          <p:cNvSpPr/>
          <p:nvPr/>
        </p:nvSpPr>
        <p:spPr>
          <a:xfrm>
            <a:off x="7954920" y="2549520"/>
            <a:ext cx="206280" cy="51912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низ 55"/>
          <p:cNvSpPr/>
          <p:nvPr/>
        </p:nvSpPr>
        <p:spPr>
          <a:xfrm>
            <a:off x="6775560" y="3656160"/>
            <a:ext cx="207720" cy="19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трелка вниз 56"/>
          <p:cNvSpPr/>
          <p:nvPr/>
        </p:nvSpPr>
        <p:spPr>
          <a:xfrm>
            <a:off x="982800" y="2579760"/>
            <a:ext cx="163440" cy="21420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трелка вниз 57"/>
          <p:cNvSpPr/>
          <p:nvPr/>
        </p:nvSpPr>
        <p:spPr>
          <a:xfrm>
            <a:off x="1055520" y="3851280"/>
            <a:ext cx="125640" cy="331920"/>
          </a:xfrm>
          <a:prstGeom prst="downArrow">
            <a:avLst>
              <a:gd name="adj1" fmla="val 50000"/>
              <a:gd name="adj2" fmla="val 4992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низ 58"/>
          <p:cNvSpPr/>
          <p:nvPr/>
        </p:nvSpPr>
        <p:spPr>
          <a:xfrm rot="17948400">
            <a:off x="3181320" y="3161880"/>
            <a:ext cx="214200" cy="188748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низ 59"/>
          <p:cNvSpPr/>
          <p:nvPr/>
        </p:nvSpPr>
        <p:spPr>
          <a:xfrm rot="7341600">
            <a:off x="2700720" y="2167560"/>
            <a:ext cx="209880" cy="118584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4" descr=""/>
          <p:cNvPicPr/>
          <p:nvPr/>
        </p:nvPicPr>
        <p:blipFill>
          <a:blip r:embed="rId1"/>
          <a:stretch/>
        </p:blipFill>
        <p:spPr>
          <a:xfrm>
            <a:off x="343080" y="193680"/>
            <a:ext cx="87166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Объект 1" descr=""/>
          <p:cNvPicPr/>
          <p:nvPr/>
        </p:nvPicPr>
        <p:blipFill>
          <a:blip r:embed="rId1"/>
          <a:stretch/>
        </p:blipFill>
        <p:spPr>
          <a:xfrm>
            <a:off x="542880" y="1835280"/>
            <a:ext cx="8551800" cy="4906800"/>
          </a:xfrm>
          <a:prstGeom prst="rect">
            <a:avLst/>
          </a:prstGeom>
          <a:ln w="0">
            <a:noFill/>
          </a:ln>
        </p:spPr>
      </p:pic>
      <p:sp>
        <p:nvSpPr>
          <p:cNvPr id="255" name="Полилиния 5"/>
          <p:cNvSpPr/>
          <p:nvPr/>
        </p:nvSpPr>
        <p:spPr>
          <a:xfrm>
            <a:off x="2057400" y="131760"/>
            <a:ext cx="6919920" cy="1855800"/>
          </a:xfrm>
          <a:prstGeom prst="pie">
            <a:avLst/>
          </a:prstGeom>
          <a:solidFill>
            <a:srgbClr val="f5c2a3"/>
          </a:solidFill>
          <a:ln cap="rnd"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0480" rIns="150480" tIns="150480" bIns="1504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критериями отнесения ребенка к категории детей, находящихся в трудной жизненной ситуации, при наличии проблем в обеспечении надлежащих условий воспитания и проживания, указанных выше групп детей,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6:00:31Z</dcterms:created>
  <dc:creator>Бовсун Ольга Владимировна</dc:creator>
  <dc:description/>
  <dc:language>en-US</dc:language>
  <cp:lastModifiedBy>Лабазанова Валентина Николаевна</cp:lastModifiedBy>
  <cp:lastPrinted>2019-04-23T06:00:57Z</cp:lastPrinted>
  <dcterms:modified xsi:type="dcterms:W3CDTF">2021-03-12T07:05:08Z</dcterms:modified>
  <cp:revision>551</cp:revision>
  <dc:subject/>
  <dc:title>Слайд 1</dc:title>
</cp:coreProperties>
</file>